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8129588" cy="6116638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0360" y="-5040"/>
            <a:ext cx="30322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2"/>
          </p:nvPr>
        </p:nvSpPr>
        <p:spPr>
          <a:xfrm>
            <a:off x="-1440" y="8817120"/>
            <a:ext cx="303192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3"/>
          </p:nvPr>
        </p:nvSpPr>
        <p:spPr>
          <a:xfrm>
            <a:off x="396036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805B645-05B4-4621-8F26-F7DC1D2408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858760" y="88390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91BF77A-8BFC-4B36-9D23-057C2F1C8C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1016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A5C5D6-3566-44DF-A515-AE751EA33B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78E47B-7397-4520-A91B-3A02C981F5B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the team’s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F41E88-DFFC-4B1C-8129-E615E0ABAF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key project milestones such as the dates and content of releases or the dates for completing key phases or gates. Compare these to management’s schedule goa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359AA3D-52D3-40B4-B8EB-36F25922D4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the key aspects of any alternate plan such as changes in scope, features, or resour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2D86D2-0447-441B-80A3-4766053948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ADA5EFF-99C0-4E26-B147-CBE3FFB5BE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4F1A286-0092-4C46-8D9D-F67113C155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DB5C8D-3B2D-495B-B220-9A55E7031F9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2B0FDA-130E-4FC1-BA82-68B185C8CFF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iefly review the structure of the launch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B432312-83B2-4332-9C32-CDAAC936C31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be the key activities of the first seven launch meetings, and how these steps work together to build a detailed plan for the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phasize how the planning steps work together to produce a plan that the team has confidence in and is committed 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A11B089-B5BB-4216-93B3-66B191C9857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978200" y="606600"/>
            <a:ext cx="281772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33452D9-10C7-49F0-9FC3-88072EF3FC6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0CE60B8-BA10-431A-AE50-D22AF38AC3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management’s stated and implied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E445C20-1B76-4DEE-9A79-2CB5E57972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5596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364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792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5596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7364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200" y="419040"/>
            <a:ext cx="685188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596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364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792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596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7364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200" y="419040"/>
            <a:ext cx="685188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7000" y="5869080"/>
            <a:ext cx="29710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TSP2010.09</a:t>
            </a:r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4800600" y="5854680"/>
            <a:ext cx="2806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Launch Workshop Meeting 9 Presentation - </a:t>
            </a:r>
            <a:fld id="{749D3395-9844-4E67-88B4-D47E1196EA49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0" y="4680"/>
            <a:ext cx="8116920" cy="610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762120" y="5859360"/>
            <a:ext cx="7122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2010 Carnegie Mellon University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TSP2010.09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 Launch Workshop Meeting 9 Presentation - </a:t>
            </a:r>
            <a:fld id="{3E2FB339-7F10-463B-93F2-4D17B5A0DCE8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912960" y="609480"/>
            <a:ext cx="7215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43" name="Picture 18" descr="logoblackbkgrdphotoshop"/>
          <p:cNvPicPr/>
          <p:nvPr/>
        </p:nvPicPr>
        <p:blipFill>
          <a:blip r:embed="rId2"/>
          <a:srcRect l="781" t="7423" r="1039" b="5419"/>
          <a:stretch/>
        </p:blipFill>
        <p:spPr>
          <a:xfrm>
            <a:off x="182520" y="155520"/>
            <a:ext cx="292104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creativecommons.org/licenses/by/4.0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51"/>
          <p:cNvSpPr/>
          <p:nvPr/>
        </p:nvSpPr>
        <p:spPr>
          <a:xfrm>
            <a:off x="922320" y="2876400"/>
            <a:ext cx="65023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91" name="Rectangle 2052"/>
          <p:cNvSpPr/>
          <p:nvPr/>
        </p:nvSpPr>
        <p:spPr>
          <a:xfrm>
            <a:off x="923760" y="914400"/>
            <a:ext cx="7167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PROJECT NAME</a:t>
            </a:r>
            <a:endParaRPr b="1" lang="en-US" sz="4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Dat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am Leader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am Members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roject Mileston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Planned Schedu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4144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Schedul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3231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entury Schoolbook"/>
              </a:rPr>
              <a:t>Alternate Plan and Key Milestones</a:t>
            </a:r>
            <a:endParaRPr b="0" lang="en-US" sz="3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roject Risk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251000"/>
          <a:ext cx="6858000" cy="698400"/>
        </p:xfrm>
        <a:graphic>
          <a:graphicData uri="http://schemas.openxmlformats.org/drawingml/2006/table">
            <a:tbl>
              <a:tblPr/>
              <a:tblGrid>
                <a:gridCol w="3962520"/>
                <a:gridCol w="762120"/>
                <a:gridCol w="1143000"/>
                <a:gridCol w="99036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and mitigation ac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lihoo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riefing objective: to secure management commitment to the plan developed by the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dat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siz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mileston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tailed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ailed plan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 (form SUM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and schedule plan (forms TASK and SCH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plan (form SUMQ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assessment (form ITL or IRT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120" y="36360"/>
            <a:ext cx="364032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61440" y="0"/>
            <a:ext cx="568080" cy="571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-515520"/>
            <a:ext cx="812952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478440" tIns="0" bIns="564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96" name="Picture 4" descr="Creative Commons Licen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73960" y="5167440"/>
            <a:ext cx="744480" cy="26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6760" y="965160"/>
            <a:ext cx="7397640" cy="447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5200" y="855720"/>
            <a:ext cx="76723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launch workshop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 goals and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ernate team goals and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ri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 flipH="1">
            <a:off x="5181120" y="313524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Launch Process Meeting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4448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.  Establish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duct and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4448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.  Assign Role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d Defin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am Goal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30364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.  Build Top-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own and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xt-Phas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30364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.  Develop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Quality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3640" y="3919680"/>
            <a:ext cx="128736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.  Build Bottom-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p an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solidate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135576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298116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2981160" y="364968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2168640" y="2084040"/>
            <a:ext cx="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21686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92904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7.  Conduc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92904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8.  Prepare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riefing an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aunch Repor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5638680" y="2754360"/>
            <a:ext cx="128772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M.  Launch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460692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248520" y="2449440"/>
            <a:ext cx="0" cy="27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8" name="Line 22"/>
          <p:cNvSpPr/>
          <p:nvPr/>
        </p:nvSpPr>
        <p:spPr>
          <a:xfrm flipV="1">
            <a:off x="3794040" y="2084040"/>
            <a:ext cx="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7940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2981160" y="50086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1" name="Line 25"/>
          <p:cNvSpPr/>
          <p:nvPr/>
        </p:nvSpPr>
        <p:spPr>
          <a:xfrm flipV="1">
            <a:off x="2981160" y="4804920"/>
            <a:ext cx="0" cy="20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5622840" y="1611360"/>
            <a:ext cx="128772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9.  Hol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3" name="Rectangle 28"/>
          <p:cNvSpPr/>
          <p:nvPr/>
        </p:nvSpPr>
        <p:spPr>
          <a:xfrm>
            <a:off x="5622840" y="3897360"/>
            <a:ext cx="128772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w Teams: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SP Proces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4" name="Line 29"/>
          <p:cNvSpPr/>
          <p:nvPr/>
        </p:nvSpPr>
        <p:spPr>
          <a:xfrm flipV="1">
            <a:off x="5487840" y="2084040"/>
            <a:ext cx="0" cy="10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54878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744480" y="3919680"/>
            <a:ext cx="128736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.  Produc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355760" y="364968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8" name="Line 33"/>
          <p:cNvSpPr/>
          <p:nvPr/>
        </p:nvSpPr>
        <p:spPr>
          <a:xfrm flipV="1">
            <a:off x="1355760" y="4804920"/>
            <a:ext cx="0" cy="20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9" name="Line 34"/>
          <p:cNvSpPr/>
          <p:nvPr/>
        </p:nvSpPr>
        <p:spPr>
          <a:xfrm flipH="1">
            <a:off x="1355760" y="50086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3231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lanning Work Accomplishe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1219320"/>
          <a:ext cx="7086600" cy="4467240"/>
        </p:xfrm>
        <a:graphic>
          <a:graphicData uri="http://schemas.openxmlformats.org/drawingml/2006/table">
            <a:tbl>
              <a:tblPr/>
              <a:tblGrid>
                <a:gridCol w="609840"/>
                <a:gridCol w="1295280"/>
                <a:gridCol w="5181480"/>
              </a:tblGrid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tg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Objectiv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cuss the project goals with management and marketing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s and Rol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and document the team's goal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ocate team roles among team member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Strateg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a system conceptual design, and, if needed, a fix list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termine the development strategy and products to be produced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the development process to be used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 size estimates and the overall team plan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 the quality plan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ed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ocate work to team member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bottom-up next-phase plans for each team member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a balanced next-phase plan for the team and each team member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Risk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ntify and evaluate project risk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risk assessment checkpoints and responsibilitie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pose mitigation actions for near-term, high-impact risk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Launch Produ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roduc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ed team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-member role assign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development strate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ilored pro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of needed process el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ies support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 down overall plan with key milestones and a detailed next-phase team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able quality pla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ttom-up balanced individual and team plans for the next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 risk assessment and mitigation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ole Assign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066680"/>
          <a:ext cx="6858000" cy="4676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 Manage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stomer Interfac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ing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anagement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d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4144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ied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quested Product Feat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46Z</dcterms:created>
  <dc:creator>Jim Over</dc:creator>
  <dc:description/>
  <cp:keywords/>
  <dc:language>en-US</dc:language>
  <cp:lastModifiedBy>William Nichols</cp:lastModifiedBy>
  <cp:lastPrinted>1999-10-08T01:22:02Z</cp:lastPrinted>
  <dcterms:modified xsi:type="dcterms:W3CDTF">2018-09-05T19:45:03Z</dcterms:modified>
  <cp:revision>52</cp:revision>
  <dc:subject/>
  <dc:title>No Slide Title</dc:title>
</cp:coreProperties>
</file>